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png" ContentType="image/png"/>
  <Override PartName="/ppt/media/image30.wmf" ContentType="image/x-wmf"/>
  <Override PartName="/ppt/media/image3.jpeg" ContentType="image/jpeg"/>
  <Override PartName="/ppt/media/image28.wmf" ContentType="image/x-wmf"/>
  <Override PartName="/ppt/media/image33.wmf" ContentType="image/x-wmf"/>
  <Override PartName="/ppt/media/image46.png" ContentType="image/png"/>
  <Override PartName="/ppt/media/image7.jpeg" ContentType="image/jpeg"/>
  <Override PartName="/ppt/media/image31.wmf" ContentType="image/x-wmf"/>
  <Override PartName="/ppt/media/image13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5.png" ContentType="image/png"/>
  <Override PartName="/ppt/media/image11.wmf" ContentType="image/x-wmf"/>
  <Override PartName="/ppt/media/image9.jpeg" ContentType="image/jpeg"/>
  <Override PartName="/ppt/media/image23.wmf" ContentType="image/x-wmf"/>
  <Override PartName="/ppt/media/image12.wmf" ContentType="image/x-wmf"/>
  <Override PartName="/ppt/media/image38.wmf" ContentType="image/x-wmf"/>
  <Override PartName="/ppt/media/image4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7ED-F9DA-4869-93C5-7DE1CE10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FF3-B771-4BFB-A446-F9D8BFE2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145-4414-4264-8B1C-CB5A8543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508-8E2C-498A-B2E7-D423D677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D19-B0B6-4C0C-AF48-D9FC5CD1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1974-779E-4BAC-AFA7-C4E9D0AC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5D64-AAA4-45C6-94C9-FDDBDF7E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31D7-1FCE-4CF9-AB20-7EB36B2E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AE58-C0AD-4902-AED0-D3DD22BB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598644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21FB-5212-4824-B97F-1EEF4865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2CD7-CCD8-4D00-91CE-BC7C073C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DF8-1843-47A8-972E-71C61CAE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67C6-3564-4D47-BF54-ED4F6DBF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530E-D739-427B-BABF-3CA8DED6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151-01CC-4155-BDD7-844FDC0C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02A4-06C0-4E60-8AB5-36861451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50C7-9D4B-4616-A020-3F8BAD39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DBB-8904-4E8B-B69F-5D0AC7DD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B5B-8E63-4F7B-B3FF-2F0D7E82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924-37F6-492E-BA44-2C53C51D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598644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542-18D0-4274-8834-CD3AE5A1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3FB-F3BE-41FF-B5C6-A25846B9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A63-95ED-4B3F-BE68-18A5453C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66F-FB99-4235-87B9-20856F81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6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95400" y="6381720"/>
            <a:ext cx="8975520" cy="39528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764D-6221-43F2-8960-7A955044B6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http://img0.liveinternet.ru/images/attach/c/3/76/172/76172666_large_sdrcgs.jpg"/>
          <p:cNvPicPr/>
          <p:nvPr/>
        </p:nvPicPr>
        <p:blipFill>
          <a:blip r:embed="rId3"/>
          <a:stretch/>
        </p:blipFill>
        <p:spPr>
          <a:xfrm>
            <a:off x="7308720" y="404640"/>
            <a:ext cx="827280" cy="54936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42" descr="http://900igr.net/datas/frantsuzskij-jazyk/Tela/0005-005-Geometricheskie-tela.jpg"/>
          <p:cNvPicPr/>
          <p:nvPr/>
        </p:nvPicPr>
        <p:blipFill>
          <a:blip r:embed="rId4"/>
          <a:stretch/>
        </p:blipFill>
        <p:spPr>
          <a:xfrm>
            <a:off x="6516720" y="404640"/>
            <a:ext cx="728640" cy="5479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4" descr="http://900igr.net/datas/frantsuzskij-jazyk/Tela/0007-007-Geometricheskie-tela.jpg"/>
          <p:cNvPicPr/>
          <p:nvPr/>
        </p:nvPicPr>
        <p:blipFill>
          <a:blip r:embed="rId5"/>
          <a:stretch/>
        </p:blipFill>
        <p:spPr>
          <a:xfrm>
            <a:off x="8234280" y="404640"/>
            <a:ext cx="730440" cy="547920"/>
          </a:xfrm>
          <a:prstGeom prst="rect">
            <a:avLst/>
          </a:prstGeom>
          <a:ln w="0">
            <a:noFill/>
          </a:ln>
        </p:spPr>
      </p:pic>
      <p:sp>
        <p:nvSpPr>
          <p:cNvPr id="15" name="TextBox 37"/>
          <p:cNvSpPr/>
          <p:nvPr/>
        </p:nvSpPr>
        <p:spPr>
          <a:xfrm>
            <a:off x="34920" y="6464160"/>
            <a:ext cx="32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 «Математика» № 01/2013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4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5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6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57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8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9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0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2" name="Group 74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63" name="Freeform 30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6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7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1" name="Picture 77" descr="http://iad.sfu-kras.ru/images/portfolio/img_2673_mid.jpg"/>
          <p:cNvPicPr/>
          <p:nvPr/>
        </p:nvPicPr>
        <p:blipFill>
          <a:blip r:embed="rId3"/>
          <a:srcRect l="8472" t="6783" r="66114" b="66112"/>
          <a:stretch/>
        </p:blipFill>
        <p:spPr>
          <a:xfrm>
            <a:off x="2484360" y="4508640"/>
            <a:ext cx="725400" cy="77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9" descr="http://iad.sfu-kras.ru/images/portfolio/img_2673_mid.jpg"/>
          <p:cNvPicPr/>
          <p:nvPr/>
        </p:nvPicPr>
        <p:blipFill>
          <a:blip r:embed="rId4"/>
          <a:srcRect l="35912" t="6932" r="36374" b="65355"/>
          <a:stretch/>
        </p:blipFill>
        <p:spPr>
          <a:xfrm>
            <a:off x="1692360" y="3716280"/>
            <a:ext cx="755640" cy="7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1" descr="http://iad.sfu-kras.ru/images/portfolio/img_2673_mid.jpg"/>
          <p:cNvPicPr/>
          <p:nvPr/>
        </p:nvPicPr>
        <p:blipFill>
          <a:blip r:embed="rId5"/>
          <a:srcRect l="7137" t="64773" r="65151" b="6881"/>
          <a:stretch/>
        </p:blipFill>
        <p:spPr>
          <a:xfrm>
            <a:off x="3276720" y="5300640"/>
            <a:ext cx="738000" cy="75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1" descr="http://iad.sfu-kras.ru/images/portfolio/img_2673_mid.jpg"/>
          <p:cNvPicPr/>
          <p:nvPr/>
        </p:nvPicPr>
        <p:blipFill>
          <a:blip r:embed="rId6"/>
          <a:srcRect l="7134" t="36422" r="65144" b="35935"/>
          <a:stretch/>
        </p:blipFill>
        <p:spPr>
          <a:xfrm>
            <a:off x="1692360" y="5300640"/>
            <a:ext cx="757080" cy="75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3" descr="http://iad.sfu-kras.ru/images/portfolio/img_2673_mid.jpg"/>
          <p:cNvPicPr/>
          <p:nvPr/>
        </p:nvPicPr>
        <p:blipFill>
          <a:blip r:embed="rId7"/>
          <a:srcRect l="36444" t="36548" r="37419" b="36372"/>
          <a:stretch/>
        </p:blipFill>
        <p:spPr>
          <a:xfrm>
            <a:off x="900000" y="4527720"/>
            <a:ext cx="746280" cy="77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3" descr="http://iad.sfu-kras.ru/images/portfolio/img_2673_mid.jpg"/>
          <p:cNvPicPr/>
          <p:nvPr/>
        </p:nvPicPr>
        <p:blipFill>
          <a:blip r:embed="rId8"/>
          <a:srcRect l="36447" t="65460" r="37427" b="7511"/>
          <a:stretch/>
        </p:blipFill>
        <p:spPr>
          <a:xfrm>
            <a:off x="4067280" y="4508640"/>
            <a:ext cx="720720" cy="745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5986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A99E-A9F2-4520-ACF5-A7BA359A2F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206028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4859280" y="4292640"/>
            <a:ext cx="4033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5e25"/>
                </a:solidFill>
                <a:latin typeface="Arial"/>
              </a:rPr>
              <a:t>А. Прокофьев,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5e25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185e25"/>
                </a:solidFill>
                <a:latin typeface="Arial"/>
              </a:rPr>
              <a:t>В. Бардушкин,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5e25"/>
                </a:solidFill>
                <a:latin typeface="Arial"/>
              </a:rPr>
              <a:t>проект  Громовой Н.А. 2022г. </a:t>
            </a:r>
            <a:endParaRPr b="0" lang="en-US" sz="2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8"/>
          <p:cNvSpPr/>
          <p:nvPr/>
        </p:nvSpPr>
        <p:spPr>
          <a:xfrm>
            <a:off x="1332000" y="1484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ставление уравнения плоскости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1" name="Прямоугольник 9"/>
          <p:cNvSpPr/>
          <p:nvPr/>
        </p:nvSpPr>
        <p:spPr>
          <a:xfrm>
            <a:off x="250920" y="2421000"/>
            <a:ext cx="86421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Составив уравнение плоскост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MNP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проходящей через три точки, не лежащие на одной прямой и заданные своими координатами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c2f13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c2f13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c2f13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c2f13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c2f13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c2f13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c2f13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c2f13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c2f13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Пусть это уравнение имеет вид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y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z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0, гд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— неизвестные числа. Подставим в него координаты точек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95280" y="1376280"/>
            <a:ext cx="755640" cy="7574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66040" y="148428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Получим систему уравнений: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186" name="Object 1"/>
          <p:cNvGraphicFramePr/>
          <p:nvPr/>
        </p:nvGraphicFramePr>
        <p:xfrm>
          <a:off x="2630520" y="2241720"/>
          <a:ext cx="3813120" cy="16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0520" y="2241720"/>
                    <a:ext cx="381312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3"/>
          <p:cNvSpPr/>
          <p:nvPr/>
        </p:nvSpPr>
        <p:spPr>
          <a:xfrm>
            <a:off x="250920" y="4157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Решив ее, найдем: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p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q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r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(если окажется, что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= 0, то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p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q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; есл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= 0, то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p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). Подставив в исходное уравнение и сократив н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≠ 0, получим уравнение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р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qy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rz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Times New Roman"/>
              </a:rPr>
              <a:t> + 1 = 0.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3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91" name="Рисунок 5" descr="e109.eps"/>
          <p:cNvPicPr/>
          <p:nvPr/>
        </p:nvPicPr>
        <p:blipFill>
          <a:blip r:embed="rId1"/>
          <a:stretch/>
        </p:blipFill>
        <p:spPr>
          <a:xfrm>
            <a:off x="2770200" y="2637000"/>
            <a:ext cx="3602160" cy="3240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3" name="Прямоугольник 10"/>
          <p:cNvSpPr/>
          <p:nvPr/>
        </p:nvSpPr>
        <p:spPr>
          <a:xfrm>
            <a:off x="250920" y="1484280"/>
            <a:ext cx="8642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Дан единичный куб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 Составить уравнение плоскости, проходящей через точк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94" name="Group 17"/>
          <p:cNvGrpSpPr/>
          <p:nvPr/>
        </p:nvGrpSpPr>
        <p:grpSpPr>
          <a:xfrm>
            <a:off x="279360" y="333360"/>
            <a:ext cx="620640" cy="584280"/>
            <a:chOff x="279360" y="333360"/>
            <a:chExt cx="620640" cy="584280"/>
          </a:xfrm>
        </p:grpSpPr>
        <p:sp>
          <p:nvSpPr>
            <p:cNvPr id="195" name="Oval 18"/>
            <p:cNvSpPr/>
            <p:nvPr/>
          </p:nvSpPr>
          <p:spPr>
            <a:xfrm>
              <a:off x="279360" y="333360"/>
              <a:ext cx="591840" cy="584280"/>
            </a:xfrm>
            <a:prstGeom prst="ellipse">
              <a:avLst/>
            </a:prstGeom>
            <a:solidFill>
              <a:srgbClr val="7030a0"/>
            </a:solidFill>
            <a:ln w="38160">
              <a:solidFill>
                <a:srgbClr val="7030a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196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79360" y="333360"/>
              <a:ext cx="62064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250920" y="1413000"/>
            <a:ext cx="8642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Найдем координаты точек: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0; 1; 0)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1; 0; 0)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1; 1; 1). Записав в общем виде уравнение плоскости </a:t>
            </a:r>
            <a:br>
              <a:rPr sz="2400"/>
            </a:b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y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z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0 и подставив в него координаты этих точек, получим систему уравнений: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1908000" y="3213000"/>
          <a:ext cx="533268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53326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Прямоугольник 3"/>
          <p:cNvSpPr/>
          <p:nvPr/>
        </p:nvSpPr>
        <p:spPr>
          <a:xfrm>
            <a:off x="250920" y="5013360"/>
            <a:ext cx="8642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Отсюд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–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–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 Тогда уравнение плоскост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имеет вид –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x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y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z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0, или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+ 1 = 0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404640"/>
            <a:ext cx="2053800" cy="502920"/>
            <a:chOff x="179280" y="404640"/>
            <a:chExt cx="2053800" cy="502920"/>
          </a:xfrm>
        </p:grpSpPr>
        <p:sp>
          <p:nvSpPr>
            <p:cNvPr id="205" name="Rectangle 5"/>
            <p:cNvSpPr/>
            <p:nvPr/>
          </p:nvSpPr>
          <p:spPr>
            <a:xfrm>
              <a:off x="179280" y="404640"/>
              <a:ext cx="1912680" cy="502920"/>
            </a:xfrm>
            <a:prstGeom prst="rect">
              <a:avLst/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06" name="AutoShape 6"/>
            <p:cNvSpPr/>
            <p:nvPr/>
          </p:nvSpPr>
          <p:spPr>
            <a:xfrm rot="5400000">
              <a:off x="2020320" y="563040"/>
              <a:ext cx="234720" cy="190440"/>
            </a:xfrm>
            <a:prstGeom prst="triangle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07" name="TextBox 8"/>
          <p:cNvSpPr/>
          <p:nvPr/>
        </p:nvSpPr>
        <p:spPr>
          <a:xfrm>
            <a:off x="2411280" y="404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8"/>
          <p:cNvSpPr/>
          <p:nvPr/>
        </p:nvSpPr>
        <p:spPr>
          <a:xfrm>
            <a:off x="1332000" y="1484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гол между плоскостями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395280" y="1376280"/>
            <a:ext cx="755640" cy="7574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50920" y="2421000"/>
          <a:ext cx="8640720" cy="256212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1605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Угол между плоскостями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и </a:t>
                      </a:r>
                      <a:r>
                        <a:rPr b="0" lang="el-GR" sz="2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, заданными соответственно уравнениями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= 0 и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= 0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равен углу </a:t>
                      </a:r>
                      <a:r>
                        <a:rPr b="0" lang="el-GR" sz="2400" spc="-1" strike="noStrike">
                          <a:solidFill>
                            <a:srgbClr val="0c2f13"/>
                          </a:solidFill>
                          <a:latin typeface="Arial"/>
                          <a:ea typeface="Arial"/>
                        </a:rPr>
                        <a:t>φ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между их нормальными векторами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и вычисляется по формуле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Object 2"/>
          <p:cNvGraphicFramePr/>
          <p:nvPr/>
        </p:nvGraphicFramePr>
        <p:xfrm>
          <a:off x="2411280" y="4005360"/>
          <a:ext cx="438156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005360"/>
                    <a:ext cx="43815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509760" y="5157720"/>
          <a:ext cx="80946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760" y="5157720"/>
                    <a:ext cx="80946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4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22" name="Рисунок 5" descr="e109.eps"/>
          <p:cNvPicPr/>
          <p:nvPr/>
        </p:nvPicPr>
        <p:blipFill>
          <a:blip r:embed="rId1"/>
          <a:stretch/>
        </p:blipFill>
        <p:spPr>
          <a:xfrm>
            <a:off x="3059280" y="2708280"/>
            <a:ext cx="2982600" cy="3600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250920" y="1484280"/>
            <a:ext cx="8642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прямоугольном параллелепипед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звестны ребр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8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6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= 5. Найти угол между плоскостям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D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226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227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5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32" name="Рисунок 5" descr="e109.eps"/>
          <p:cNvPicPr/>
          <p:nvPr/>
        </p:nvPicPr>
        <p:blipFill>
          <a:blip r:embed="rId1"/>
          <a:stretch/>
        </p:blipFill>
        <p:spPr>
          <a:xfrm>
            <a:off x="5435640" y="2924280"/>
            <a:ext cx="3151080" cy="3565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4" name="Прямоугольник 10"/>
          <p:cNvSpPr/>
          <p:nvPr/>
        </p:nvSpPr>
        <p:spPr>
          <a:xfrm>
            <a:off x="250920" y="1484280"/>
            <a:ext cx="86421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правильной четырехугольной призм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стороны основания равны 1, а боковые ребра равны 4. На ребр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A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отмечена точк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так, что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E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EA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3 : 1. Найти угол между плоскостям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ED</a:t>
            </a:r>
            <a:r>
              <a:rPr b="0" lang="en-US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35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236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237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8"/>
          <p:cNvSpPr/>
          <p:nvPr/>
        </p:nvSpPr>
        <p:spPr>
          <a:xfrm>
            <a:off x="1332000" y="1484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395280" y="1376280"/>
            <a:ext cx="755640" cy="7574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50920" y="2565360"/>
          <a:ext cx="8640720" cy="262260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1075320"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Расстояние от точки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до плоскости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можно вычислить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по формуле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92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372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где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), а плоскость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задана уравнением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ax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by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cz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= 0.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627280" y="3321000"/>
          <a:ext cx="387036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321000"/>
                    <a:ext cx="3870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6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53" name="Рисунок 5" descr="e109.eps"/>
          <p:cNvPicPr/>
          <p:nvPr/>
        </p:nvPicPr>
        <p:blipFill>
          <a:blip r:embed="rId1"/>
          <a:stretch/>
        </p:blipFill>
        <p:spPr>
          <a:xfrm>
            <a:off x="5508720" y="2852640"/>
            <a:ext cx="2944800" cy="3600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5" name="Прямоугольник 10"/>
          <p:cNvSpPr/>
          <p:nvPr/>
        </p:nvSpPr>
        <p:spPr>
          <a:xfrm>
            <a:off x="250920" y="1484280"/>
            <a:ext cx="86421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Дана правильная треугольная призм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BCA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 Сторона основания равна 2, а боковое ребро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— 3. Точк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— середина ребр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 Найти расстояние от точк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до плоскост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B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56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257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258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7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63" name="Рисунок 5" descr="e109.eps"/>
          <p:cNvPicPr/>
          <p:nvPr/>
        </p:nvPicPr>
        <p:blipFill>
          <a:blip r:embed="rId1"/>
          <a:stretch/>
        </p:blipFill>
        <p:spPr>
          <a:xfrm>
            <a:off x="5659560" y="2852640"/>
            <a:ext cx="2643120" cy="3600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250920" y="1484280"/>
            <a:ext cx="86421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правильной четырехугольной призм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стороны основания равны 1, боковые ребра равны 2. Точк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— середина ребр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A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 Найдите расстояние от вершины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до плоскост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E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66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267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268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8"/>
          <p:cNvSpPr/>
          <p:nvPr/>
        </p:nvSpPr>
        <p:spPr>
          <a:xfrm>
            <a:off x="1332000" y="1484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сстояние между двумя точками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" name="Прямоугольник 9"/>
          <p:cNvSpPr/>
          <p:nvPr/>
        </p:nvSpPr>
        <p:spPr>
          <a:xfrm>
            <a:off x="250920" y="2565360"/>
            <a:ext cx="8642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Расстояние между точкам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)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) вычисляется по формуле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1116000" y="3860640"/>
          <a:ext cx="68040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860640"/>
                    <a:ext cx="68040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13"/>
          <p:cNvSpPr/>
          <p:nvPr/>
        </p:nvSpPr>
        <p:spPr>
          <a:xfrm>
            <a:off x="395280" y="1376280"/>
            <a:ext cx="755640" cy="7574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8"/>
          <p:cNvSpPr/>
          <p:nvPr/>
        </p:nvSpPr>
        <p:spPr>
          <a:xfrm>
            <a:off x="1332000" y="1484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сстояние от точки до прямой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3" name="AutoShape 13"/>
          <p:cNvSpPr/>
          <p:nvPr/>
        </p:nvSpPr>
        <p:spPr>
          <a:xfrm>
            <a:off x="395280" y="1376280"/>
            <a:ext cx="755640" cy="7574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8" name="Прямоугольник 12"/>
          <p:cNvSpPr/>
          <p:nvPr/>
        </p:nvSpPr>
        <p:spPr>
          <a:xfrm>
            <a:off x="250920" y="2349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Рассмотрим способ вычисления расстояния от точк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до прямой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пространстве, основанный на применении формулы расстояния от точки до плоскости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79" name="Рисунок 13" descr="e118.eps"/>
          <p:cNvPicPr/>
          <p:nvPr/>
        </p:nvPicPr>
        <p:blipFill>
          <a:blip r:embed="rId1"/>
          <a:stretch/>
        </p:blipFill>
        <p:spPr>
          <a:xfrm>
            <a:off x="4427640" y="3645000"/>
            <a:ext cx="3036960" cy="25207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14"/>
          <p:cNvSpPr/>
          <p:nvPr/>
        </p:nvSpPr>
        <p:spPr>
          <a:xfrm>
            <a:off x="982800" y="4365720"/>
            <a:ext cx="27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c2f13"/>
                </a:solidFill>
                <a:latin typeface="Arial"/>
              </a:rPr>
              <a:t>ρ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D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c2f13"/>
                </a:solidFill>
                <a:latin typeface="Arial"/>
              </a:rPr>
              <a:t>ρ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8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83" name="Рисунок 5" descr="e109.eps"/>
          <p:cNvPicPr/>
          <p:nvPr/>
        </p:nvPicPr>
        <p:blipFill>
          <a:blip r:embed="rId1"/>
          <a:stretch/>
        </p:blipFill>
        <p:spPr>
          <a:xfrm>
            <a:off x="5364000" y="3068640"/>
            <a:ext cx="3337200" cy="30243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5" name="Прямоугольник 10"/>
          <p:cNvSpPr/>
          <p:nvPr/>
        </p:nvSpPr>
        <p:spPr>
          <a:xfrm>
            <a:off x="250920" y="1484280"/>
            <a:ext cx="864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единичном куб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найти расстояние от точк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до прямой </a:t>
            </a:r>
            <a:r>
              <a:rPr b="0" i="1" lang="ru-RU" sz="2400" spc="-1" strike="noStrike">
                <a:solidFill>
                  <a:srgbClr val="0c2f13"/>
                </a:solidFill>
                <a:latin typeface="Arial"/>
              </a:rPr>
              <a:t>Р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0c2f13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— середины соответственно ребер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c2f13"/>
                </a:solidFill>
                <a:latin typeface="Arial"/>
              </a:rPr>
              <a:t>ВС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86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287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288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8"/>
          <p:cNvSpPr/>
          <p:nvPr/>
        </p:nvSpPr>
        <p:spPr>
          <a:xfrm>
            <a:off x="1332000" y="1268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гол между прямой и плоскость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3" name="AutoShape 13"/>
          <p:cNvSpPr/>
          <p:nvPr/>
        </p:nvSpPr>
        <p:spPr>
          <a:xfrm>
            <a:off x="395280" y="1160640"/>
            <a:ext cx="755640" cy="755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50920" y="2060640"/>
          <a:ext cx="8712000" cy="3421080"/>
        </p:xfrm>
        <a:graphic>
          <a:graphicData uri="http://schemas.openxmlformats.org/drawingml/2006/table">
            <a:tbl>
              <a:tblPr/>
              <a:tblGrid>
                <a:gridCol w="8712000"/>
              </a:tblGrid>
              <a:tr h="1239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Пусть введена декартова система координат, в которой уже составлено уравнение плоскости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: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ax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by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cz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= 0. Выберем на прямой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две точки,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z</a:t>
                      </a:r>
                      <a:r>
                        <a:rPr b="0" i="1" lang="en-US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) и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z</a:t>
                      </a:r>
                      <a:r>
                        <a:rPr b="0" i="1" lang="en-US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).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2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Выберем на плоскости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 некоторую 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точку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x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y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z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) и проведем через нее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прямую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l</a:t>
                      </a:r>
                      <a:r>
                        <a:rPr b="0" lang="ru-RU" sz="2400" spc="-1" strike="noStrike" baseline="-30000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||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l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99" name="Рисунок 12" descr="e124.eps"/>
          <p:cNvPicPr/>
          <p:nvPr/>
        </p:nvPicPr>
        <p:blipFill>
          <a:blip r:embed="rId1"/>
          <a:stretch/>
        </p:blipFill>
        <p:spPr>
          <a:xfrm>
            <a:off x="6084720" y="4076640"/>
            <a:ext cx="2767320" cy="23050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302" name="Object 6"/>
          <p:cNvGraphicFramePr/>
          <p:nvPr/>
        </p:nvGraphicFramePr>
        <p:xfrm>
          <a:off x="1476360" y="3429000"/>
          <a:ext cx="61657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3429000"/>
                    <a:ext cx="6165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50920" y="1484280"/>
          <a:ext cx="8642160" cy="3565440"/>
        </p:xfrm>
        <a:graphic>
          <a:graphicData uri="http://schemas.openxmlformats.org/drawingml/2006/table">
            <a:tbl>
              <a:tblPr/>
              <a:tblGrid>
                <a:gridCol w="3571920"/>
                <a:gridCol w="507024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Пусть вектор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ее направляющий вектор. 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5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Координаты точки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) определяются равенствами: 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0" i="1" lang="en-US" sz="2400" spc="-1" strike="noStrike" baseline="-30000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9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Поскольку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l</a:t>
                      </a:r>
                      <a:r>
                        <a:rPr b="0" lang="ru-RU" sz="2400" spc="-1" strike="noStrike" baseline="-30000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||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l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, то угол между прямой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l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и плоскостью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 равен углу между 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прямой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l</a:t>
                      </a:r>
                      <a:r>
                        <a:rPr b="0" lang="ru-RU" sz="2400" spc="-1" strike="noStrike" baseline="-30000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 и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10" name="Рисунок 12" descr="e124.eps"/>
          <p:cNvPicPr/>
          <p:nvPr/>
        </p:nvPicPr>
        <p:blipFill>
          <a:blip r:embed="rId1"/>
          <a:stretch/>
        </p:blipFill>
        <p:spPr>
          <a:xfrm>
            <a:off x="6084720" y="4076640"/>
            <a:ext cx="2767320" cy="23050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313" name="Object 3"/>
          <p:cNvGraphicFramePr/>
          <p:nvPr/>
        </p:nvGraphicFramePr>
        <p:xfrm>
          <a:off x="2411280" y="1593720"/>
          <a:ext cx="1370160" cy="4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593720"/>
                    <a:ext cx="13701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50920" y="1484280"/>
          <a:ext cx="8642160" cy="2016000"/>
        </p:xfrm>
        <a:graphic>
          <a:graphicData uri="http://schemas.openxmlformats.org/drawingml/2006/table">
            <a:tbl>
              <a:tblPr/>
              <a:tblGrid>
                <a:gridCol w="1728720"/>
                <a:gridCol w="1584360"/>
                <a:gridCol w="2592360"/>
                <a:gridCol w="2736720"/>
              </a:tblGrid>
              <a:tr h="1189080">
                <a:tc gridSpan="4"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Пусть точка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— проекция точки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 на плоскость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. Тогда угол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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— искомый, из прямоугольного треугольника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CDH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choolBook"/>
                          <a:ea typeface="Times New Roman"/>
                        </a:rPr>
                        <a:t>получим: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где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а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DH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находится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 gridSpan="4"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по формуле расстояния от точки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до плоскости </a:t>
                      </a:r>
                      <a:r>
                        <a:rPr b="0" lang="en-US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Symbol"/>
                          <a:ea typeface="Symbol"/>
                        </a:rPr>
                        <a:t>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21" name="Рисунок 12" descr="e124.eps"/>
          <p:cNvPicPr/>
          <p:nvPr/>
        </p:nvPicPr>
        <p:blipFill>
          <a:blip r:embed="rId1"/>
          <a:stretch/>
        </p:blipFill>
        <p:spPr>
          <a:xfrm>
            <a:off x="6084720" y="4076640"/>
            <a:ext cx="2767320" cy="23050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324" name="Object 4"/>
          <p:cNvGraphicFramePr/>
          <p:nvPr/>
        </p:nvGraphicFramePr>
        <p:xfrm>
          <a:off x="1763640" y="2276640"/>
          <a:ext cx="170352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276640"/>
                    <a:ext cx="17035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4211640" y="2421000"/>
          <a:ext cx="1771560" cy="5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2421000"/>
                    <a:ext cx="1771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330" name="Object 6"/>
          <p:cNvGraphicFramePr/>
          <p:nvPr/>
        </p:nvGraphicFramePr>
        <p:xfrm>
          <a:off x="1143000" y="3718080"/>
          <a:ext cx="4797360" cy="93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3000" y="3718080"/>
                    <a:ext cx="47973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9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34" name="Рисунок 5" descr="e109.eps"/>
          <p:cNvPicPr/>
          <p:nvPr/>
        </p:nvPicPr>
        <p:blipFill>
          <a:blip r:embed="rId1"/>
          <a:stretch/>
        </p:blipFill>
        <p:spPr>
          <a:xfrm>
            <a:off x="3138480" y="2997360"/>
            <a:ext cx="2946240" cy="31064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6" name="Прямоугольник 10"/>
          <p:cNvSpPr/>
          <p:nvPr/>
        </p:nvSpPr>
        <p:spPr>
          <a:xfrm>
            <a:off x="250920" y="148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правильной четырехугольной пирамид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SABC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в которой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5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S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4, точка </a:t>
            </a:r>
            <a:r>
              <a:rPr b="0" i="1" lang="ru-RU" sz="2400" spc="-1" strike="noStrike">
                <a:solidFill>
                  <a:srgbClr val="0c2f13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— середина ребр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S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 Найти угол между прямой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E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плоскостью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SB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37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338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339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10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44" name="Рисунок 5" descr="e109.eps"/>
          <p:cNvPicPr/>
          <p:nvPr/>
        </p:nvPicPr>
        <p:blipFill>
          <a:blip r:embed="rId1"/>
          <a:stretch/>
        </p:blipFill>
        <p:spPr>
          <a:xfrm>
            <a:off x="3233880" y="2997360"/>
            <a:ext cx="2754000" cy="3106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6" name="Прямоугольник 10"/>
          <p:cNvSpPr/>
          <p:nvPr/>
        </p:nvSpPr>
        <p:spPr>
          <a:xfrm>
            <a:off x="250920" y="1484280"/>
            <a:ext cx="8642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правильной шестиугольной призм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все ребра которой равны 1, найти угол между прямой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B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плоскостью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CE</a:t>
            </a:r>
            <a:r>
              <a:rPr b="0" lang="en-US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47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348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349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8"/>
          <p:cNvSpPr/>
          <p:nvPr/>
        </p:nvSpPr>
        <p:spPr>
          <a:xfrm>
            <a:off x="1332000" y="153828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сстояние между скрещивающимися прямыми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395280" y="1430280"/>
            <a:ext cx="755640" cy="7574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1" name="Прямоугольник 13"/>
          <p:cNvSpPr/>
          <p:nvPr/>
        </p:nvSpPr>
        <p:spPr>
          <a:xfrm>
            <a:off x="250920" y="29304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Если скрещивающиеся прямые поместить в параллельные плоскости, то расстояние между этими прямыми будет равно расстоянию между построенными плоскостями, а оно равно расстоянию от любой точки одной прямой до плоскости, содержащей вторую прямую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11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64" name="Рисунок 5" descr="e109.eps"/>
          <p:cNvPicPr/>
          <p:nvPr/>
        </p:nvPicPr>
        <p:blipFill>
          <a:blip r:embed="rId1"/>
          <a:stretch/>
        </p:blipFill>
        <p:spPr>
          <a:xfrm>
            <a:off x="3340080" y="2997360"/>
            <a:ext cx="2543040" cy="31064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6" name="Прямоугольник 10"/>
          <p:cNvSpPr/>
          <p:nvPr/>
        </p:nvSpPr>
        <p:spPr>
          <a:xfrm>
            <a:off x="250920" y="1484280"/>
            <a:ext cx="8642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BCA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все ребра которой равны 7, найти расстояние между прямым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A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67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368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369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12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74" name="Рисунок 5" descr="e109.eps"/>
          <p:cNvPicPr/>
          <p:nvPr/>
        </p:nvPicPr>
        <p:blipFill>
          <a:blip r:embed="rId1"/>
          <a:stretch/>
        </p:blipFill>
        <p:spPr>
          <a:xfrm>
            <a:off x="4643280" y="3213000"/>
            <a:ext cx="3549960" cy="324036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6" name="Прямоугольник 10"/>
          <p:cNvSpPr/>
          <p:nvPr/>
        </p:nvSpPr>
        <p:spPr>
          <a:xfrm>
            <a:off x="250920" y="1484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правильной шестиугольной пирамид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SABCDEF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боковое ребро и сторона основания равны 5 и 3 соответственно. Точк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— середина ребр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SF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а точк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делит ребро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S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так, что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S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M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1 : 3. Найти расстояние между прямым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E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378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379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8"/>
          <p:cNvSpPr/>
          <p:nvPr/>
        </p:nvSpPr>
        <p:spPr>
          <a:xfrm>
            <a:off x="108000" y="404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ча 1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250920" y="1700280"/>
            <a:ext cx="8642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Найти координаты точк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на отрезк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такой, что </a:t>
            </a:r>
            <a:br>
              <a:rPr sz="2400"/>
            </a:b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гд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)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29" name="Рисунок 5" descr="e109.eps"/>
          <p:cNvPicPr/>
          <p:nvPr/>
        </p:nvPicPr>
        <p:blipFill>
          <a:blip r:embed="rId1"/>
          <a:stretch/>
        </p:blipFill>
        <p:spPr>
          <a:xfrm>
            <a:off x="3419640" y="3429000"/>
            <a:ext cx="2266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Текст 2" descr=""/>
          <p:cNvPicPr/>
          <p:nvPr/>
        </p:nvPicPr>
        <p:blipFill>
          <a:blip r:embed="rId1"/>
          <a:stretch/>
        </p:blipFill>
        <p:spPr>
          <a:xfrm>
            <a:off x="396720" y="1414440"/>
            <a:ext cx="4102200" cy="4761000"/>
          </a:xfrm>
          <a:prstGeom prst="rect">
            <a:avLst/>
          </a:prstGeom>
          <a:ln w="0">
            <a:noFill/>
          </a:ln>
        </p:spPr>
      </p:pic>
      <p:pic>
        <p:nvPicPr>
          <p:cNvPr id="384" name="Объект 3" descr=""/>
          <p:cNvPicPr/>
          <p:nvPr/>
        </p:nvPicPr>
        <p:blipFill>
          <a:blip r:embed="rId2"/>
          <a:stretch/>
        </p:blipFill>
        <p:spPr>
          <a:xfrm>
            <a:off x="4584600" y="1438200"/>
            <a:ext cx="41022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8"/>
          <p:cNvSpPr/>
          <p:nvPr/>
        </p:nvSpPr>
        <p:spPr>
          <a:xfrm>
            <a:off x="108000" y="404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ча 2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32" name="Рисунок 5" descr="e109.eps"/>
          <p:cNvPicPr/>
          <p:nvPr/>
        </p:nvPicPr>
        <p:blipFill>
          <a:blip r:embed="rId1"/>
          <a:stretch/>
        </p:blipFill>
        <p:spPr>
          <a:xfrm>
            <a:off x="3132000" y="3284640"/>
            <a:ext cx="2811600" cy="2881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773360"/>
          <a:ext cx="8640720" cy="457200"/>
        </p:xfrm>
        <a:graphic>
          <a:graphicData uri="http://schemas.openxmlformats.org/drawingml/2006/table">
            <a:tbl>
              <a:tblPr/>
              <a:tblGrid>
                <a:gridCol w="6769080"/>
                <a:gridCol w="1871640"/>
              </a:tblGrid>
              <a:tr h="5101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Найти координаты точки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, если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2400" spc="-1" strike="noStrike" baseline="-25000">
                          <a:solidFill>
                            <a:srgbClr val="0c2f13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),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Object 2"/>
          <p:cNvGraphicFramePr/>
          <p:nvPr/>
        </p:nvGraphicFramePr>
        <p:xfrm>
          <a:off x="6645240" y="1736640"/>
          <a:ext cx="218268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5240" y="1736640"/>
                    <a:ext cx="2182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1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39" name="Рисунок 5" descr="e109.eps"/>
          <p:cNvPicPr/>
          <p:nvPr/>
        </p:nvPicPr>
        <p:blipFill>
          <a:blip r:embed="rId1"/>
          <a:stretch/>
        </p:blipFill>
        <p:spPr>
          <a:xfrm>
            <a:off x="5508720" y="198900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250920" y="1700280"/>
            <a:ext cx="50418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единичном куб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точк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— середины ребер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A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соответственно, а точк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лежат соответственно на отрезках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EK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LK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так, что </a:t>
            </a:r>
            <a:br>
              <a:rPr sz="2400"/>
            </a:b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E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EK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2 : 3, а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LN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NK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= 1 : 4. Найти длину отрезка </a:t>
            </a:r>
            <a:r>
              <a:rPr b="0" i="1" lang="ru-RU" sz="2400" spc="-1" strike="noStrike">
                <a:solidFill>
                  <a:srgbClr val="0c2f13"/>
                </a:solidFill>
                <a:latin typeface="Arial"/>
              </a:rPr>
              <a:t>М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42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143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144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8"/>
          <p:cNvSpPr/>
          <p:nvPr/>
        </p:nvSpPr>
        <p:spPr>
          <a:xfrm>
            <a:off x="1332000" y="1341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гол между прямыми в пространстве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250920" y="2454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Ненулевой вектор, коллинеарный прямой, называется ее </a:t>
            </a:r>
            <a:r>
              <a:rPr b="0" i="1" lang="ru-RU" sz="2400" spc="-1" strike="noStrike">
                <a:solidFill>
                  <a:srgbClr val="0c2f13"/>
                </a:solidFill>
                <a:latin typeface="Arial"/>
              </a:rPr>
              <a:t>направляющим вектором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395280" y="1233360"/>
            <a:ext cx="755640" cy="755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250920" y="3645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При нахождении угла </a:t>
            </a:r>
            <a:r>
              <a:rPr b="0" lang="ru-RU" sz="2400" spc="-1" strike="noStrike">
                <a:solidFill>
                  <a:srgbClr val="0c2f13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между прямым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l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используют формулу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3079800" y="4581360"/>
          <a:ext cx="289080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9800" y="4581360"/>
                    <a:ext cx="289080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3"/>
          <p:cNvSpPr/>
          <p:nvPr/>
        </p:nvSpPr>
        <p:spPr>
          <a:xfrm>
            <a:off x="395280" y="1197000"/>
            <a:ext cx="755640" cy="755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4508640"/>
          <a:ext cx="8756640" cy="1096920"/>
        </p:xfrm>
        <a:graphic>
          <a:graphicData uri="http://schemas.openxmlformats.org/drawingml/2006/table">
            <a:tbl>
              <a:tblPr/>
              <a:tblGrid>
                <a:gridCol w="720720"/>
                <a:gridCol w="2519640"/>
                <a:gridCol w="360360"/>
                <a:gridCol w="2808000"/>
                <a:gridCol w="234792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где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                                           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—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— 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направляющие векторы прямых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 и </a:t>
                      </a:r>
                      <a:r>
                        <a:rPr b="0" i="1" lang="en-US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400" spc="-1" strike="noStrike">
                          <a:solidFill>
                            <a:srgbClr val="0c2f13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Object 6"/>
          <p:cNvGraphicFramePr/>
          <p:nvPr/>
        </p:nvGraphicFramePr>
        <p:xfrm>
          <a:off x="1763640" y="2817720"/>
          <a:ext cx="550872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817720"/>
                    <a:ext cx="55087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Box 12"/>
          <p:cNvSpPr/>
          <p:nvPr/>
        </p:nvSpPr>
        <p:spPr>
          <a:xfrm>
            <a:off x="1332000" y="13050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гол между прямыми в пространстве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755640" y="4365720"/>
          <a:ext cx="264960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365720"/>
                    <a:ext cx="26496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3838680" y="4365720"/>
          <a:ext cx="2678040" cy="71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38680" y="4365720"/>
                    <a:ext cx="26780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Прямоугольник 15"/>
          <p:cNvSpPr/>
          <p:nvPr/>
        </p:nvSpPr>
        <p:spPr>
          <a:xfrm>
            <a:off x="250920" y="2017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Или (в координатной форме)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8"/>
          <p:cNvSpPr/>
          <p:nvPr/>
        </p:nvSpPr>
        <p:spPr>
          <a:xfrm>
            <a:off x="97164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2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6" name="Рисунок 5" descr="e109.eps"/>
          <p:cNvPicPr/>
          <p:nvPr/>
        </p:nvPicPr>
        <p:blipFill>
          <a:blip r:embed="rId1"/>
          <a:stretch/>
        </p:blipFill>
        <p:spPr>
          <a:xfrm>
            <a:off x="5508720" y="198900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8" name="Прямоугольник 10"/>
          <p:cNvSpPr/>
          <p:nvPr/>
        </p:nvSpPr>
        <p:spPr>
          <a:xfrm>
            <a:off x="250920" y="1700280"/>
            <a:ext cx="50418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 единичном кубе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найти угол между прямыми </a:t>
            </a:r>
            <a:r>
              <a:rPr b="0" i="1" lang="ru-RU" sz="2400" spc="-1" strike="noStrike">
                <a:solidFill>
                  <a:srgbClr val="0c2f13"/>
                </a:solidFill>
                <a:latin typeface="Arial"/>
              </a:rPr>
              <a:t>АЕ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F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0c2f13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— точки, расположенные на ребрах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c2f13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c2f1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так, что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69" name="Group 17"/>
          <p:cNvGrpSpPr/>
          <p:nvPr/>
        </p:nvGrpSpPr>
        <p:grpSpPr>
          <a:xfrm>
            <a:off x="250920" y="333360"/>
            <a:ext cx="620640" cy="611280"/>
            <a:chOff x="250920" y="333360"/>
            <a:chExt cx="620640" cy="611280"/>
          </a:xfrm>
        </p:grpSpPr>
        <p:sp>
          <p:nvSpPr>
            <p:cNvPr id="170" name="Oval 18"/>
            <p:cNvSpPr/>
            <p:nvPr/>
          </p:nvSpPr>
          <p:spPr>
            <a:xfrm>
              <a:off x="266400" y="360360"/>
              <a:ext cx="591480" cy="5842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171" name="Picture 19" descr="cir_lighteffect0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62064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173" name="Object 1"/>
          <p:cNvGraphicFramePr/>
          <p:nvPr/>
        </p:nvGraphicFramePr>
        <p:xfrm>
          <a:off x="874800" y="3465360"/>
          <a:ext cx="3697200" cy="9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4800" y="3465360"/>
                    <a:ext cx="36972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8"/>
          <p:cNvSpPr/>
          <p:nvPr/>
        </p:nvSpPr>
        <p:spPr>
          <a:xfrm>
            <a:off x="1332000" y="1484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пособы задания плоскости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7" name="Прямоугольник 9"/>
          <p:cNvSpPr/>
          <p:nvPr/>
        </p:nvSpPr>
        <p:spPr>
          <a:xfrm>
            <a:off x="250920" y="256536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Плоскость в пространстве однозначно определяется: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а)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тремя точками, не лежащими на одной прямой;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б)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прямой и точкой, не лежащей на этой прямой;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в)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двумя пересекающимися прямыми;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г)</a:t>
            </a:r>
            <a:r>
              <a:rPr b="0" lang="en-US" sz="2400" spc="-1" strike="noStrike">
                <a:solidFill>
                  <a:srgbClr val="0c2f13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двумя параллельными прямыми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395280" y="1376280"/>
            <a:ext cx="755640" cy="7574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8:14:32Z</dcterms:created>
  <dc:creator>Алексей</dc:creator>
  <dc:description/>
  <dc:language>en-US</dc:language>
  <cp:lastModifiedBy>Owner</cp:lastModifiedBy>
  <dcterms:modified xsi:type="dcterms:W3CDTF">2022-11-13T15:57:23Z</dcterms:modified>
  <cp:revision>43</cp:revision>
  <dc:subject/>
  <dc:title>ThemeGallery PowerTemplate</dc:title>
</cp:coreProperties>
</file>