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5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gif" ContentType="image/gi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96C0-20E7-4DED-B9DC-2747C659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44E1-7CC3-4416-8E3A-F2539587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308E0-9160-4821-A27C-5F340DDA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94AC1-6991-466D-9A1E-FEFB4EB5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563EA-04B3-481F-AD87-7DB1953C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9701A-A633-4C5C-A6BF-013FC6F0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593C6-E2C5-4887-B2BC-F0F05F32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50E46-34BB-4A6E-8EBF-7226C2F4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207F9-5ECB-48EA-812E-378E6DC8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5FADB-A872-43E6-8E8D-16B393B4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C53F4-BC55-4D12-9A6A-1BD712FF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914E8-EDEC-47CE-8FA6-E7F08D2B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2AE9-E518-4581-992F-A8C1440B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33A6B-67BD-474D-AFFC-D0C86DA5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2978D-35D7-4CA0-A561-7CE48FAB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3E1D6-C729-4148-BDAD-A3707F93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96BC2-FC85-44B3-9F4D-AC53FE41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A6607-B5FD-4F1A-AC79-0A343896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B64F4-1AA0-4E66-85DF-032DEE92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7A1B7-4844-4A80-BA80-A37A807D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6122C-9EFC-4E02-9EB8-B8506384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3EC8E-1D4B-4B95-8C78-697C4B12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1A980-73B3-464F-A036-69863A87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507-8D99-4CFE-B9A2-76F28CAF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A5348-792D-4359-8F51-50D7B6AE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9DEDA-CDDE-4AC5-8877-4BF62B55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31B54-8585-474A-BE3F-191C1AF3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DF069-4F4C-45AF-9A72-74909D7D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C2E2D-0127-45FE-A245-D60CB534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B51FD-73D1-414C-93BC-40A109DD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6A808-4EB5-4D7F-AC01-E112AE2B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5DFCF-B0B1-415D-9631-EFFFC53D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AB20D-4ED4-496A-B77B-8A8116B7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0D81B-44F4-47CB-A374-93255C6A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CAC50-EE7F-4D0D-AB33-5FB35CF4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66B77-9990-4C99-9B16-3B25F402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9F621-4443-40E4-BF81-574021CF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547E6-3981-4D16-9B1B-01BE276D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39159-C9D6-4E63-AD8D-226A9D43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30A8D-5FC4-4817-A4C7-B70F7A2B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6D685-9284-45D3-9D63-F211DE7A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A6F5B-F17B-4358-98E3-5557D495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06724-6140-407D-90D8-67BE7223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9774F-3126-422E-8214-4C795BF4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19A71-8EDB-4787-9F8F-15A3EF03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970CF-127D-4FAA-94B4-2D749C6F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EFF51-52BA-44B9-8924-32DF613D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A08F6-D022-4936-8F9A-4C27A745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FE85B-93AD-407D-8E36-2E6E4EA0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977AA-EEB6-4F09-B501-4E6B773D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A4D00-99A9-4FFC-A281-077A0D26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13B9E-C442-434D-8349-D4A3A84B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A5E4F-BC78-4D26-AE22-727A1D9D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07F46-D18E-41B8-8A15-D4EDEC37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7D421-758B-480E-9692-872CD47C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FD305-1340-4158-91FF-2EBE809D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A5A0-8395-4F5A-B82B-9E58ADD0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8E452-D2DD-47EE-9946-05EB189C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1DD75-6E55-43E8-A92D-AE07BA18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395B1-02EC-4FEA-B6D1-772DD462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4E696-F009-43F9-A808-6322C69C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D77DE-155E-4A11-BF5C-1D9C9809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509631-4BD0-4B9A-9DF0-C83C696C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807724-F2A0-48B5-8C22-2A23EBDD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1CB7F2-363B-41C6-B96D-D8E08268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A6DC38-3285-49A8-94A7-BF516444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AD5613-3E10-48BF-B2BB-16783E01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4381-C079-4C43-868A-1E5BF90C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351942-A9E3-46D8-966D-32FCCFF0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B5E49A-9DB3-4AB7-9577-C7DA06B7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84AB30-BB93-498A-866A-26B92070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B152AC-5241-4DDF-A633-63530D80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5D1872-63D8-454D-B7A8-C68A4813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36D551-FCC5-45A6-9D9A-DE70CF90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9040F6-B9EC-43DC-A9B2-8408688A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6A809-8CAE-4A09-B39D-57D4BEBB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9A2A0-7D84-4915-9C29-0C64BB2B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C0878-FBB7-4062-BEB6-4BE659E5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CC8-DF99-47A9-8524-6F895051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95BA1-7393-442B-AB63-8A36F806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FC816-2E29-4657-BBCB-9481AE99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C019E-322A-416A-A299-D6F0B7DA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F3D31-2F61-4889-9CC2-26903948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73315-6A55-4102-8DE6-23F3E046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2A997-463A-4F65-BF42-8D7CD24C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03DC9-929A-4237-A5C4-2BB95511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77D1F-AD18-479C-A001-BBAFEDFF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D0F14-F3FF-4DD0-8209-C03758B7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A1FA9-A2A9-4A79-9542-E1D7925C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772-56D5-4816-B597-777CE7D9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CA343-2253-4F87-8440-DCBD5838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C48AC-E4AA-4DF3-A7CE-5E033D34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0702A-01F5-4474-8A54-23C048B7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60D34-5D00-4826-8A35-44D2787B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8A45B-0958-4270-BE05-FEF1334D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791C4-07A5-4384-A3D7-2A424646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E9484-2BAF-443D-858A-E480A463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1DDCC-DEAE-49F5-8FF1-431A60CA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362C6-EBD3-43A6-81B6-D8CFEADF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582F9-24C3-4F15-9FFA-609C9D11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9059-E196-4385-8070-C0556F0F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0CCB8-D490-42A9-B2CD-5FCF8F7C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29417-2D90-47D2-A700-1B495FCA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4D6E3-AACD-4637-8BD9-4B279783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82F47-4038-49D1-94CA-00A6CA53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5FFD0-7DF1-4F28-80C5-30DD708F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DEFC4-41CE-4464-BEE6-C5B369E2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41A33-D3D1-45E0-A1DB-432232B0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41847-32F5-467A-81C1-9EDF69FB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C2B88-6BD5-49BB-AB77-7A4E516E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4DFD4-3D2E-490C-AAC3-F5977500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DFF-3FD4-486C-865D-4641FF8F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A51A4-9892-49CA-B642-536B42D7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30054-6D78-4858-A40D-ABFA1F0B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89EF1-F87E-49BA-AD22-540CA1D5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73937-9E3E-486F-9652-2E5C579B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2A6BA-9C67-4286-AD67-E14BD84A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C5D76-D820-4DE3-8CBC-4D7B3A60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A57AA-F06E-435F-879C-235821A8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0A375-27EC-47FA-98F3-91AD508C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7C784-D29C-46C1-B950-7BB7E876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29CC5-00F7-49BB-9BBD-97689555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7EA4-12E1-4B5F-9925-D88D6CFF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06B8F-8E8B-4F1D-A180-B8281804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BE0C8-1F9F-45C3-9BEC-F7D131CD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77654-F9AB-4220-844B-6CF1F553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E9AD6-0945-464A-8D90-9999756D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72D62-F038-46F0-9049-03CA445E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F0BE6-3075-4936-817F-91C6B156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717F8-C41D-4293-8625-209969E7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24498-3BCC-432B-9AB8-4216BD1A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B9C22-30F0-4EE0-BFE2-D6B5FC6F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A2FA3-904A-4B72-AF3A-6B844DA0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3450-891E-4CBF-9F1C-880688F2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D9C3F-DAB8-432A-80A0-1791F4FF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15221-9503-4E64-A37F-C0B1887D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23EF6-3D7E-458B-AC62-756E8527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39154-9716-47B9-89E7-7F45A97E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5FA28-F086-46E4-A86A-89851CBD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78702-402E-4C2F-828E-A2FE1C59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E1F48-F440-4401-8775-6892FC31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182B5-C1AC-4B39-A3E6-76EFEC8A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76C9F-79EA-45E4-B9E6-5AA7DDEF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3239D-F15C-47C5-8613-F3F53C4D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E1D9-EFAB-48EA-BF15-F123A1294B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AC39-02D5-498A-B1BC-B8F48102BA5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BD9D-5DEA-4969-9AEB-5574514B52A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7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988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9693-D1D0-41DD-BB6C-BAB1D57E6D8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ECFE-545A-4384-8637-119DD0B9F8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39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C631-F85C-4245-A946-7E6D840206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E342-411B-47B7-8280-E506BC5BC9E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5F36-0B47-4F28-A4AA-2B60A3A5704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82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BE83-C883-4A7E-8844-37401AF089F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2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3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3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3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537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538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1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542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3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4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5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6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47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161F-D783-48C8-BEEC-76F9F236C8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9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C0DD-8A47-4076-9A12-E4CAD7C260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646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Rectangle 18"/>
            <p:cNvSpPr/>
            <p:nvPr/>
          </p:nvSpPr>
          <p:spPr>
            <a:xfrm flipH="1" flipV="1" rot="18391200">
              <a:off x="85366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4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0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4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5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8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9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0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9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1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9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0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1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2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3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4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5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9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0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0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6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9B3D-0C67-417D-8A5D-00208921AC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WordArt 5"/>
          <p:cNvSpPr txBox="1"/>
          <p:nvPr/>
        </p:nvSpPr>
        <p:spPr>
          <a:xfrm>
            <a:off x="2556000" y="2276640"/>
            <a:ext cx="4465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18900000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Задач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18900000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18900000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и пять методов е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18900000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38183" dir="18900000" blurRad="0" rotWithShape="0">
                    <a:srgbClr val="000000">
                      <a:alpha val="40000"/>
                    </a:srgbClr>
                  </a:outerShdw>
                </a:effectLst>
                <a:latin typeface="Times New Roman"/>
              </a:rPr>
              <a:t>реш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38183" dir="18900000" blurRad="0" rotWithShape="0">
                  <a:srgbClr val="000000">
                    <a:alpha val="4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3" name="Rectangle 8"/>
          <p:cNvSpPr/>
          <p:nvPr/>
        </p:nvSpPr>
        <p:spPr>
          <a:xfrm>
            <a:off x="2987640" y="54072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«Бенефис одной задачи»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Rectangle 9"/>
          <p:cNvSpPr/>
          <p:nvPr/>
        </p:nvSpPr>
        <p:spPr>
          <a:xfrm>
            <a:off x="179280" y="5013360"/>
            <a:ext cx="698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ыполнил: Гаврилов Григорий,ученик 10 класса. 2021г.МБОУ «Гатчинская СОШ №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Руководитель проекта  с использованием презентации 2011г.  Шатиловой Виктор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Громова Н. А.2021 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/>
          </p:nvPr>
        </p:nvSpPr>
        <p:spPr>
          <a:xfrm>
            <a:off x="685800" y="1868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едиану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 биссектрису  ВЕ треугольника АВС выразим через длины а,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с сторон треугольника по формулам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усть АВ=х, АЕ=у, тогда ВС=2х и СЕ=2у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лучим систему уравнений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Rectangle 7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8" name="Object 6"/>
              <p:cNvSpPr txBox="1"/>
              <p:nvPr/>
            </p:nvSpPr>
            <p:spPr>
              <a:xfrm>
                <a:off x="5219640" y="2060640"/>
                <a:ext cx="187164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</m:e>
                      <m:e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С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А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9" name="Rectangle 9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Object 8"/>
              <p:cNvSpPr txBox="1"/>
              <p:nvPr/>
            </p:nvSpPr>
            <p:spPr>
              <a:xfrm>
                <a:off x="1908000" y="4797360"/>
                <a:ext cx="540072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сюда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Значит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11" name="Picture 10" descr="сканирование0001"/>
          <p:cNvPicPr/>
          <p:nvPr/>
        </p:nvPicPr>
        <p:blipFill>
          <a:blip r:embed="rId1"/>
          <a:stretch/>
        </p:blipFill>
        <p:spPr>
          <a:xfrm>
            <a:off x="5292720" y="3429000"/>
            <a:ext cx="3240000" cy="22464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112" name="WordArt 4"/>
          <p:cNvSpPr txBox="1"/>
          <p:nvPr/>
        </p:nvSpPr>
        <p:spPr>
          <a:xfrm>
            <a:off x="665280" y="-28440"/>
            <a:ext cx="666432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3. Аналитически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/>
          </p:nvPr>
        </p:nvSpPr>
        <p:spPr>
          <a:xfrm>
            <a:off x="107640" y="1568160"/>
            <a:ext cx="8351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означим АВ=х, угол АВС=2α. По теореме косинусов из треугольников АВЕ и ВСЕ находим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ывая, что СЕ=2АЕ или С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4А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аем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cos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cos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α=ВО, значит, ВО=3 и ОЕ=1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таётся, пользуясь теоремой Пифагора, вычислить стороны треугольника АВС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4" name="Object 9"/>
              <p:cNvSpPr txBox="1"/>
              <p:nvPr/>
            </p:nvSpPr>
            <p:spPr>
              <a:xfrm>
                <a:off x="6443640" y="2349360"/>
                <a:ext cx="18734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14"/>
              <p:cNvSpPr txBox="1"/>
              <p:nvPr/>
            </p:nvSpPr>
            <p:spPr>
              <a:xfrm>
                <a:off x="1547640" y="4944960"/>
                <a:ext cx="38894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16" name="Picture 17" descr="сканирование0001"/>
          <p:cNvPicPr/>
          <p:nvPr/>
        </p:nvPicPr>
        <p:blipFill>
          <a:blip r:embed="rId1"/>
          <a:stretch/>
        </p:blipFill>
        <p:spPr>
          <a:xfrm>
            <a:off x="5846760" y="4944960"/>
            <a:ext cx="2612880" cy="181152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1117" name="WordArt 4"/>
          <p:cNvSpPr txBox="1"/>
          <p:nvPr/>
        </p:nvSpPr>
        <p:spPr>
          <a:xfrm>
            <a:off x="468360" y="-66600"/>
            <a:ext cx="738324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4. Тригонометрический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WordArt 15"/>
          <p:cNvSpPr txBox="1"/>
          <p:nvPr/>
        </p:nvSpPr>
        <p:spPr>
          <a:xfrm>
            <a:off x="1727280" y="476280"/>
            <a:ext cx="597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еометрический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особ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9" name="Text Box 16"/>
          <p:cNvSpPr/>
          <p:nvPr/>
        </p:nvSpPr>
        <p:spPr>
          <a:xfrm>
            <a:off x="2627280" y="19414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1.С помощью площад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Text Box 17"/>
          <p:cNvSpPr/>
          <p:nvPr/>
        </p:nvSpPr>
        <p:spPr>
          <a:xfrm>
            <a:off x="1798560" y="29005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2. С помощью осевой симметри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Text Box 21"/>
          <p:cNvSpPr/>
          <p:nvPr/>
        </p:nvSpPr>
        <p:spPr>
          <a:xfrm>
            <a:off x="900000" y="38116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3. По теореме о средней линии треугольни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Text Box 23"/>
          <p:cNvSpPr/>
          <p:nvPr/>
        </p:nvSpPr>
        <p:spPr>
          <a:xfrm>
            <a:off x="2627280" y="477216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4. По теореме Менел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/>
          </p:nvPr>
        </p:nvSpPr>
        <p:spPr>
          <a:xfrm>
            <a:off x="3419280" y="1557360"/>
            <a:ext cx="5400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Так как АО=О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=2, ВЕ=4 и А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перпендикулярна ВЕ, то площадь каждого из треугольников ВАЕ и В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Е равна 4. Площадь треугольника С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Е так же равна 4, так как медиана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делит треугольник ВСЕ на два равновеликих треугольника.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Значит, площадь треугольника АВС равна 12.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Поскольку А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-медиана треугольника АВС,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то площадь треугольника АВ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равна 6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Остаётся применить формулу площади треугольника. Получим: АО*ВО=6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Но АО=2, значит, ВО=3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Стороны треугольника АВС найдём по теореме Пифагора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4" name="Object 8"/>
              <p:cNvSpPr txBox="1"/>
              <p:nvPr/>
            </p:nvSpPr>
            <p:spPr>
              <a:xfrm>
                <a:off x="4308480" y="5759280"/>
                <a:ext cx="33116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25" name="Picture 11" descr="ва"/>
          <p:cNvPicPr/>
          <p:nvPr/>
        </p:nvPicPr>
        <p:blipFill>
          <a:blip r:embed="rId1"/>
          <a:stretch/>
        </p:blipFill>
        <p:spPr>
          <a:xfrm>
            <a:off x="324000" y="1916280"/>
            <a:ext cx="3311280" cy="3166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126" name="WordArt 4"/>
          <p:cNvSpPr txBox="1"/>
          <p:nvPr/>
        </p:nvSpPr>
        <p:spPr>
          <a:xfrm>
            <a:off x="971640" y="-192240"/>
            <a:ext cx="6696000" cy="157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5. С помощью площадей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ffff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/>
          </p:nvPr>
        </p:nvSpPr>
        <p:spPr>
          <a:xfrm>
            <a:off x="-252720" y="1341360"/>
            <a:ext cx="4895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Точки А и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симметричны относительно биссектрисы ВЕ. Построим  еще точку, симметричную точке С относительно прямой ВЕ. Для этого продолжим отрезок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Е до пересечения с прямой АВ и обозначим через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точку пересечения прямых АВ и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Е. Получим равнобедренный треугольник ВС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, из равенства треугольника ВЕ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 и ВЕС следует, что В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=ВС. Продолжим еще биссектрису ВЕ до пересечения с С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 в точке Н. Тогда ВН - биссектриса треугольника ВС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, а следовательно, и его медиана. Таким образом, Е – точка пересечения медиан треугольника ВС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и поэтому ЕН=0,5ВЕ=2, а ВН=6.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Средняя линия 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 треугольника ВС</a:t>
            </a: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F </a:t>
            </a:r>
            <a:r>
              <a:rPr b="0" lang="ru-RU" sz="1500" spc="-1" strike="noStrike">
                <a:solidFill>
                  <a:srgbClr val="000000"/>
                </a:solidFill>
                <a:latin typeface="Comic Sans MS"/>
              </a:rPr>
              <a:t>делит медиану ВН пополам, поэтому ВО=3. Далее поступаем так же, как при решении задачи другими способами и получаем тот же ответ.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Object 7"/>
              <p:cNvSpPr txBox="1"/>
              <p:nvPr/>
            </p:nvSpPr>
            <p:spPr>
              <a:xfrm>
                <a:off x="2771640" y="5805360"/>
                <a:ext cx="4464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29" name="Picture 10" descr="ва"/>
          <p:cNvPicPr/>
          <p:nvPr/>
        </p:nvPicPr>
        <p:blipFill>
          <a:blip r:embed="rId1"/>
          <a:stretch/>
        </p:blipFill>
        <p:spPr>
          <a:xfrm>
            <a:off x="4643280" y="1700280"/>
            <a:ext cx="3456000" cy="3305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130" name="WordArt 4"/>
          <p:cNvSpPr txBox="1"/>
          <p:nvPr/>
        </p:nvSpPr>
        <p:spPr>
          <a:xfrm>
            <a:off x="395280" y="-228600"/>
            <a:ext cx="741672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6. С помощью осевой симметрии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/>
          </p:nvPr>
        </p:nvSpPr>
        <p:spPr>
          <a:xfrm>
            <a:off x="4149360" y="1517760"/>
            <a:ext cx="46702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ведём среднюю линию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треугольника ВСЕ. Так как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параллельна ВЕ и АО=О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Е – средняя линия треугольника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K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едовательно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ак как ВЕ=4, то ОЕ=1 и ВО=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 приведённого решения видно, что отношение ВО/ОЕ не зависит от отрезков ВЕ 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Найти это отношение можно также, используя лишь тот факт, что 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медиана треугольника АВС и АО=О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 причём без всяких вспомогательных построени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3" name="Object 7"/>
              <p:cNvSpPr txBox="1"/>
              <p:nvPr/>
            </p:nvSpPr>
            <p:spPr>
              <a:xfrm>
                <a:off x="4575240" y="3645000"/>
                <a:ext cx="2514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ВЕ</m:t>
                    </m:r>
                    <m:r>
                      <m:t xml:space="preserve">,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О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В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11"/>
              <p:cNvSpPr txBox="1"/>
              <p:nvPr/>
            </p:nvSpPr>
            <p:spPr>
              <a:xfrm>
                <a:off x="5178600" y="6237360"/>
                <a:ext cx="273672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35" name="Picture 14" descr="сканирование0001"/>
          <p:cNvPicPr/>
          <p:nvPr/>
        </p:nvPicPr>
        <p:blipFill>
          <a:blip r:embed="rId1"/>
          <a:stretch/>
        </p:blipFill>
        <p:spPr>
          <a:xfrm>
            <a:off x="324000" y="2349360"/>
            <a:ext cx="4103640" cy="2845080"/>
          </a:xfrm>
          <a:prstGeom prst="rect">
            <a:avLst/>
          </a:prstGeom>
          <a:ln w="9360">
            <a:solidFill>
              <a:srgbClr val="ff3399"/>
            </a:solidFill>
            <a:miter/>
          </a:ln>
        </p:spPr>
      </p:pic>
      <p:sp>
        <p:nvSpPr>
          <p:cNvPr id="1136" name="WordArt 4"/>
          <p:cNvSpPr txBox="1"/>
          <p:nvPr/>
        </p:nvSpPr>
        <p:spPr>
          <a:xfrm>
            <a:off x="262080" y="-44280"/>
            <a:ext cx="7616520" cy="15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7. По теореме о средней линии треугольн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/>
          </p:nvPr>
        </p:nvSpPr>
        <p:spPr>
          <a:xfrm>
            <a:off x="-203040" y="1500120"/>
            <a:ext cx="8735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екущая ВЕ пересекает стороны треугольника АС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точках Е и О. По теореме Менелая  из треугольника АС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имеем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 так как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именив теперь теорему Менелая к треугольнику ВСЕ и секущей 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получим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о АЕ/АС=1/3 и С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=DB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ледовательно, ВО/ОЕ=3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Object 6"/>
              <p:cNvSpPr txBox="1"/>
              <p:nvPr/>
            </p:nvSpPr>
            <p:spPr>
              <a:xfrm>
                <a:off x="179280" y="2117880"/>
                <a:ext cx="1441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Object 8"/>
              <p:cNvSpPr txBox="1"/>
              <p:nvPr/>
            </p:nvSpPr>
            <p:spPr>
              <a:xfrm>
                <a:off x="179280" y="2879640"/>
                <a:ext cx="2286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В</m:t>
                    </m:r>
                    <m:r>
                      <m:rPr>
                        <m:lit/>
                        <m:nor/>
                      </m:rPr>
                      <m:t xml:space="preserve">В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A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А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Е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1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2" name="Object 10"/>
              <p:cNvSpPr txBox="1"/>
              <p:nvPr/>
            </p:nvSpPr>
            <p:spPr>
              <a:xfrm>
                <a:off x="189000" y="4175280"/>
                <a:ext cx="11430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О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ОЕ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Е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С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3" name="Picture 12" descr="сканирование0001"/>
          <p:cNvPicPr/>
          <p:nvPr/>
        </p:nvPicPr>
        <p:blipFill>
          <a:blip r:embed="rId1"/>
          <a:stretch/>
        </p:blipFill>
        <p:spPr>
          <a:xfrm>
            <a:off x="4165560" y="3605040"/>
            <a:ext cx="3421080" cy="2372040"/>
          </a:xfrm>
          <a:prstGeom prst="rect">
            <a:avLst/>
          </a:prstGeom>
          <a:ln w="9360">
            <a:solidFill>
              <a:srgbClr val="ff3399"/>
            </a:solidFill>
            <a:miter/>
          </a:ln>
        </p:spPr>
      </p:pic>
      <p:sp>
        <p:nvSpPr>
          <p:cNvPr id="1144" name="Rectangle 1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Object 13"/>
              <p:cNvSpPr txBox="1"/>
              <p:nvPr/>
            </p:nvSpPr>
            <p:spPr>
              <a:xfrm>
                <a:off x="2627280" y="6162840"/>
                <a:ext cx="388944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46" name="WordArt 4"/>
          <p:cNvSpPr txBox="1"/>
          <p:nvPr/>
        </p:nvSpPr>
        <p:spPr>
          <a:xfrm>
            <a:off x="395280" y="-38160"/>
            <a:ext cx="713088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8. По теореме Менел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715680" y="18900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орема Менела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Равнобедренный треугольник 3"/>
          <p:cNvSpPr/>
          <p:nvPr/>
        </p:nvSpPr>
        <p:spPr>
          <a:xfrm>
            <a:off x="4403880" y="3772080"/>
            <a:ext cx="158400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Прямая соединительная линия 5"/>
          <p:cNvSpPr/>
          <p:nvPr/>
        </p:nvSpPr>
        <p:spPr>
          <a:xfrm>
            <a:off x="5987880" y="46864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Прямая соединительная линия 8"/>
          <p:cNvSpPr/>
          <p:nvPr/>
        </p:nvSpPr>
        <p:spPr>
          <a:xfrm>
            <a:off x="3827520" y="3927600"/>
            <a:ext cx="424800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Прямая соединительная линия 11"/>
          <p:cNvSpPr/>
          <p:nvPr/>
        </p:nvSpPr>
        <p:spPr>
          <a:xfrm>
            <a:off x="4403880" y="4686480"/>
            <a:ext cx="0" cy="0"/>
          </a:xfrm>
          <a:prstGeom prst="line">
            <a:avLst/>
          </a:prstGeom>
          <a:ln w="9360">
            <a:solidFill>
              <a:srgbClr val="fded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Прямая соединительная линия 13"/>
          <p:cNvSpPr/>
          <p:nvPr/>
        </p:nvSpPr>
        <p:spPr>
          <a:xfrm flipV="1">
            <a:off x="4403880" y="4070160"/>
            <a:ext cx="142560" cy="61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Прямая соединительная линия 16"/>
          <p:cNvSpPr/>
          <p:nvPr/>
        </p:nvSpPr>
        <p:spPr>
          <a:xfrm flipH="1">
            <a:off x="5051160" y="3772080"/>
            <a:ext cx="144360" cy="40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Прямая соединительная линия 26"/>
          <p:cNvSpPr/>
          <p:nvPr/>
        </p:nvSpPr>
        <p:spPr>
          <a:xfrm flipV="1">
            <a:off x="5987880" y="4378320"/>
            <a:ext cx="7164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Прямая соединительная линия 31"/>
          <p:cNvSpPr/>
          <p:nvPr/>
        </p:nvSpPr>
        <p:spPr>
          <a:xfrm>
            <a:off x="4546440" y="4143240"/>
            <a:ext cx="0" cy="0"/>
          </a:xfrm>
          <a:prstGeom prst="line">
            <a:avLst/>
          </a:prstGeom>
          <a:ln w="9360">
            <a:solidFill>
              <a:srgbClr val="fded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6" name="Объект 43" descr=""/>
          <p:cNvPicPr/>
          <p:nvPr/>
        </p:nvPicPr>
        <p:blipFill>
          <a:blip r:embed="rId1"/>
          <a:stretch/>
        </p:blipFill>
        <p:spPr>
          <a:xfrm>
            <a:off x="201600" y="1030320"/>
            <a:ext cx="7894800" cy="2895480"/>
          </a:xfrm>
          <a:prstGeom prst="rect">
            <a:avLst/>
          </a:prstGeom>
          <a:ln w="0">
            <a:noFill/>
          </a:ln>
        </p:spPr>
      </p:pic>
      <p:sp>
        <p:nvSpPr>
          <p:cNvPr id="1157" name="TextBox 44"/>
          <p:cNvSpPr/>
          <p:nvPr/>
        </p:nvSpPr>
        <p:spPr>
          <a:xfrm>
            <a:off x="5030640" y="3413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TextBox 45"/>
          <p:cNvSpPr/>
          <p:nvPr/>
        </p:nvSpPr>
        <p:spPr>
          <a:xfrm>
            <a:off x="4128120" y="46134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TextBox 46"/>
          <p:cNvSpPr/>
          <p:nvPr/>
        </p:nvSpPr>
        <p:spPr>
          <a:xfrm>
            <a:off x="4300200" y="37418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TextBox 47"/>
          <p:cNvSpPr/>
          <p:nvPr/>
        </p:nvSpPr>
        <p:spPr>
          <a:xfrm>
            <a:off x="5896800" y="4613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TextBox 48"/>
          <p:cNvSpPr/>
          <p:nvPr/>
        </p:nvSpPr>
        <p:spPr>
          <a:xfrm>
            <a:off x="5999760" y="40752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TextBox 49"/>
          <p:cNvSpPr/>
          <p:nvPr/>
        </p:nvSpPr>
        <p:spPr>
          <a:xfrm>
            <a:off x="4835520" y="41432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TextBox 50"/>
          <p:cNvSpPr/>
          <p:nvPr/>
        </p:nvSpPr>
        <p:spPr>
          <a:xfrm>
            <a:off x="5599800" y="397512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TextBox 51"/>
          <p:cNvSpPr/>
          <p:nvPr/>
        </p:nvSpPr>
        <p:spPr>
          <a:xfrm>
            <a:off x="4640040" y="377352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TextBox 52"/>
          <p:cNvSpPr/>
          <p:nvPr/>
        </p:nvSpPr>
        <p:spPr>
          <a:xfrm>
            <a:off x="7391520" y="437832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Заголовок 1"/>
          <p:cNvSpPr/>
          <p:nvPr/>
        </p:nvSpPr>
        <p:spPr>
          <a:xfrm>
            <a:off x="868320" y="341280"/>
            <a:ext cx="6870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WordArt 6"/>
          <p:cNvSpPr txBox="1"/>
          <p:nvPr/>
        </p:nvSpPr>
        <p:spPr>
          <a:xfrm>
            <a:off x="1817640" y="235080"/>
            <a:ext cx="550872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Вывод:</a:t>
            </a:r>
            <a:endParaRPr b="0" lang="en-US" sz="8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8" name="Text Box 8"/>
          <p:cNvSpPr/>
          <p:nvPr/>
        </p:nvSpPr>
        <p:spPr>
          <a:xfrm>
            <a:off x="611280" y="1844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ходе работы мы рассмотрели пять методов решения конкретной задач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Rectangle 9"/>
          <p:cNvSpPr/>
          <p:nvPr/>
        </p:nvSpPr>
        <p:spPr>
          <a:xfrm>
            <a:off x="2916360" y="2139840"/>
            <a:ext cx="2808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ординатны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50720" indent="-45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екторный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50720" indent="-45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50720" indent="-45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ригонометрически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50720" indent="-45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еометрический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450720" indent="-45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Text Box 10"/>
          <p:cNvSpPr/>
          <p:nvPr/>
        </p:nvSpPr>
        <p:spPr>
          <a:xfrm>
            <a:off x="539640" y="3500280"/>
            <a:ext cx="777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к правило, основными методами решения планиметрических задач на вычисления являются алгебраические и тригонометрические методы. Но как видно из работы, геометрические методы оказались проще и изящнее, хотя к ним можно прийти только догадавшись провести некоторые вспомогательные линии. Таким образом, важно владеть геометрическими приёмами, которые позволяют найти наиболее простое и красивое решение с помощью дополнительных построений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666699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WordArt 4"/>
          <p:cNvSpPr txBox="1"/>
          <p:nvPr/>
        </p:nvSpPr>
        <p:spPr>
          <a:xfrm rot="21312000">
            <a:off x="395280" y="260280"/>
            <a:ext cx="367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ведение</a:t>
            </a:r>
            <a:endParaRPr b="1" i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3865680" y="1251000"/>
            <a:ext cx="4593960" cy="1871640"/>
          </a:xfrm>
          <a:prstGeom prst="rect">
            <a:avLst/>
          </a:prstGeom>
          <a:solidFill>
            <a:srgbClr val="ff9900">
              <a:alpha val="8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074"/>
                </a:solidFill>
                <a:latin typeface="Comic Sans MS"/>
              </a:rPr>
              <a:t>Для успешного изучения геометр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074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1e0074"/>
                </a:solidFill>
                <a:latin typeface="Comic Sans MS"/>
              </a:rPr>
              <a:t>необходимо знать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074"/>
                </a:solidFill>
                <a:latin typeface="Comic Sans MS"/>
              </a:rPr>
              <a:t>не только основные формулы 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074"/>
                </a:solidFill>
                <a:latin typeface="Comic Sans MS"/>
              </a:rPr>
              <a:t>теоремы, но и владеть различным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e0074"/>
                </a:solidFill>
                <a:latin typeface="Comic Sans MS"/>
              </a:rPr>
              <a:t>методами решения задач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/>
          </p:nvPr>
        </p:nvSpPr>
        <p:spPr>
          <a:xfrm>
            <a:off x="468360" y="342864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ять основных методов, применяемых в решении задач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Rectangle 9"/>
          <p:cNvSpPr/>
          <p:nvPr/>
        </p:nvSpPr>
        <p:spPr>
          <a:xfrm>
            <a:off x="4356000" y="4005360"/>
            <a:ext cx="43927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ординатн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екторны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алитическ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игонометрическ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еометрическ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AutoShape 23"/>
          <p:cNvSpPr/>
          <p:nvPr/>
        </p:nvSpPr>
        <p:spPr>
          <a:xfrm rot="20675400">
            <a:off x="934920" y="4186080"/>
            <a:ext cx="2592360" cy="2087640"/>
          </a:xfrm>
          <a:custGeom>
            <a:avLst/>
            <a:gdLst>
              <a:gd name="textAreaLeft" fmla="*/ 591840 w 2592360"/>
              <a:gd name="textAreaRight" fmla="*/ 2000520 w 2592360"/>
              <a:gd name="textAreaTop" fmla="*/ 476640 h 2087640"/>
              <a:gd name="textAreaBottom" fmla="*/ 1611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WordArt 4"/>
          <p:cNvSpPr txBox="1"/>
          <p:nvPr/>
        </p:nvSpPr>
        <p:spPr>
          <a:xfrm>
            <a:off x="2484360" y="404640"/>
            <a:ext cx="4175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Гипотез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1041" name="Picture 6" descr="baby18"/>
          <p:cNvPicPr/>
          <p:nvPr/>
        </p:nvPicPr>
        <p:blipFill>
          <a:blip r:embed="rId1"/>
          <a:stretch/>
        </p:blipFill>
        <p:spPr>
          <a:xfrm>
            <a:off x="154080" y="4503600"/>
            <a:ext cx="1535040" cy="2232000"/>
          </a:xfrm>
          <a:prstGeom prst="rect">
            <a:avLst/>
          </a:prstGeom>
          <a:ln w="0">
            <a:noFill/>
          </a:ln>
        </p:spPr>
      </p:pic>
      <p:sp>
        <p:nvSpPr>
          <p:cNvPr id="1042" name="WordArt 10"/>
          <p:cNvSpPr txBox="1"/>
          <p:nvPr/>
        </p:nvSpPr>
        <p:spPr>
          <a:xfrm>
            <a:off x="8244000" y="4827600"/>
            <a:ext cx="5745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3" name="WordArt 11"/>
          <p:cNvSpPr txBox="1"/>
          <p:nvPr/>
        </p:nvSpPr>
        <p:spPr>
          <a:xfrm>
            <a:off x="7596360" y="5516640"/>
            <a:ext cx="502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4" name="WordArt 12"/>
          <p:cNvSpPr txBox="1"/>
          <p:nvPr/>
        </p:nvSpPr>
        <p:spPr>
          <a:xfrm>
            <a:off x="7140600" y="6159600"/>
            <a:ext cx="358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5" name="TextBox 1"/>
          <p:cNvSpPr/>
          <p:nvPr/>
        </p:nvSpPr>
        <p:spPr>
          <a:xfrm>
            <a:off x="1195560" y="1773360"/>
            <a:ext cx="7341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abriola"/>
                <a:ea typeface="Cambria Math"/>
              </a:rPr>
              <a:t>Возможно ли решить конкретную задачу всеми указанными способами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10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0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10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WordArt 4"/>
          <p:cNvSpPr txBox="1"/>
          <p:nvPr/>
        </p:nvSpPr>
        <p:spPr>
          <a:xfrm>
            <a:off x="250920" y="181764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Цель работы:</a:t>
            </a:r>
            <a:endParaRPr b="1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/>
          </p:nvPr>
        </p:nvSpPr>
        <p:spPr>
          <a:xfrm>
            <a:off x="477360" y="3692520"/>
            <a:ext cx="769644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дачи работ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спробовать разные методы на одной задаче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явить  отличительные черты, сильные и слабые стороны разных метод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8" name="Picture 10" descr="Рисунок92"/>
          <p:cNvPicPr/>
          <p:nvPr/>
        </p:nvPicPr>
        <p:blipFill>
          <a:blip r:embed="rId1"/>
          <a:stretch/>
        </p:blipFill>
        <p:spPr>
          <a:xfrm>
            <a:off x="7308720" y="5129280"/>
            <a:ext cx="1498680" cy="1655640"/>
          </a:xfrm>
          <a:prstGeom prst="rect">
            <a:avLst/>
          </a:prstGeom>
          <a:ln w="0">
            <a:noFill/>
          </a:ln>
        </p:spPr>
      </p:pic>
      <p:sp>
        <p:nvSpPr>
          <p:cNvPr id="1049" name="WordArt 9"/>
          <p:cNvSpPr txBox="1"/>
          <p:nvPr/>
        </p:nvSpPr>
        <p:spPr>
          <a:xfrm>
            <a:off x="3186000" y="1460520"/>
            <a:ext cx="4996080" cy="19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учиться распознаванию и использованию 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тематических методов при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смотрении различных решении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дной и той же задачи</a:t>
            </a:r>
            <a:endParaRPr b="0" lang="en-US" sz="1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0" name="WordArt 4"/>
          <p:cNvSpPr txBox="1"/>
          <p:nvPr/>
        </p:nvSpPr>
        <p:spPr>
          <a:xfrm>
            <a:off x="1584360" y="-55440"/>
            <a:ext cx="4995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Цели и зада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31640" y="777960"/>
            <a:ext cx="8280720" cy="194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треугольнике АВС биссектриса ВЕ и медиан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пендикулярны  и имеют одинаковую длину, равную 4. Найти стороны треугольника АВ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6"/>
          <p:cNvSpPr/>
          <p:nvPr/>
        </p:nvSpPr>
        <p:spPr>
          <a:xfrm>
            <a:off x="4500720" y="3544920"/>
            <a:ext cx="4572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тупая к решению задачи, сразу замечаем, что если О – точка пересечения биссектрисы ВЕ и медиа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прямоугольные треугольни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равны. Поэтому АО=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и АВ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ак что ВС=2А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3" name="Picture 8" descr="с"/>
          <p:cNvPicPr/>
          <p:nvPr/>
        </p:nvPicPr>
        <p:blipFill>
          <a:blip r:embed="rId2"/>
          <a:stretch/>
        </p:blipFill>
        <p:spPr>
          <a:xfrm>
            <a:off x="252360" y="3141720"/>
            <a:ext cx="4448160" cy="3240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cover dir="l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2411280" y="1425240"/>
            <a:ext cx="633744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мем точку О за начало прямоугольной системы координат, оси Ох придадим направление вектора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D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будем считать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диницей масштаб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данной системе точк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, D, B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меют координаты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(-2;0),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(2;0) и В (0;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8" name="Object 14"/>
              <p:cNvSpPr txBox="1"/>
              <p:nvPr/>
            </p:nvSpPr>
            <p:spPr>
              <a:xfrm>
                <a:off x="5111640" y="1971720"/>
                <a:ext cx="524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D</m:t>
                            </m:r>
                          </m:e>
                        </m:acc>
                      </m:e>
                    </m:d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9" name="Rectangle 16"/>
          <p:cNvSpPr/>
          <p:nvPr/>
        </p:nvSpPr>
        <p:spPr>
          <a:xfrm>
            <a:off x="108000" y="3284640"/>
            <a:ext cx="834372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того чтобы определить длины сторон треугольника АВС, надо найти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число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ыразим через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координаты точек С и Е. Так как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–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ередина отрезка ВС, то С (4;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). Для точки Е имеем координаты (0;у). Вторую координату точки Е найдем, пользуясь, тем что точка Е принадлежит прямой АС. Уравнение прямой АС имеет вид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ординаты точки Е (0;у) удовлетворяют этому уравнению. Подставив в него 0 вместо х, получим:           Следовательно,           По условию задачи ВЕ=4, значит,        , или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=3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так, А (-2;0), В (0;3), С (4;-3). Зная координаты вершин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реугольника АВС, найдем его стороны:     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Rectangle 1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1" name="Object 18"/>
              <p:cNvSpPr txBox="1"/>
              <p:nvPr/>
            </p:nvSpPr>
            <p:spPr>
              <a:xfrm>
                <a:off x="4280040" y="4275000"/>
                <a:ext cx="690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2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3" name="Object 20"/>
              <p:cNvSpPr txBox="1"/>
              <p:nvPr/>
            </p:nvSpPr>
            <p:spPr>
              <a:xfrm>
                <a:off x="2763720" y="4811760"/>
                <a:ext cx="5810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4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Object 22"/>
              <p:cNvSpPr txBox="1"/>
              <p:nvPr/>
            </p:nvSpPr>
            <p:spPr>
              <a:xfrm>
                <a:off x="5025960" y="4819680"/>
                <a:ext cx="609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6" name="Rectangle 2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Object 24"/>
              <p:cNvSpPr txBox="1"/>
              <p:nvPr/>
            </p:nvSpPr>
            <p:spPr>
              <a:xfrm>
                <a:off x="1231920" y="5067360"/>
                <a:ext cx="485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8" name="Rectangle 27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9" name="Object 26"/>
              <p:cNvSpPr txBox="1"/>
              <p:nvPr/>
            </p:nvSpPr>
            <p:spPr>
              <a:xfrm>
                <a:off x="5181480" y="5950080"/>
                <a:ext cx="271620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070" name="Picture 28" descr="с"/>
          <p:cNvPicPr/>
          <p:nvPr/>
        </p:nvPicPr>
        <p:blipFill>
          <a:blip r:embed="rId1"/>
          <a:stretch/>
        </p:blipFill>
        <p:spPr>
          <a:xfrm>
            <a:off x="250920" y="1400040"/>
            <a:ext cx="2449440" cy="1782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71" name="WordArt 4"/>
          <p:cNvSpPr txBox="1"/>
          <p:nvPr/>
        </p:nvSpPr>
        <p:spPr>
          <a:xfrm>
            <a:off x="2073240" y="44280"/>
            <a:ext cx="49975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1. Координат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место уравнения прямой в отрезк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висимость между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лучим из подобия треугольников АОЕ 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FC  AO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E=AF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fld id="{862B2B95-B549-4B37-94A9-510B63D22B39}" type="slidenum">
              <a:rPr b="0" lang="ru-RU" sz="3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=6(-b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Значи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(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3.Далее как в презента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/>
          </p:nvPr>
        </p:nvSpPr>
        <p:spPr>
          <a:xfrm>
            <a:off x="610920" y="1844640"/>
            <a:ext cx="7623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екторы ВЕ и АД выразим через а и с.Так как ВС=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то СЕ=2АЕ( по свойству биссектрисы треугольника). Пользуясь формулой деления отрезка в данном отношении, получим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гласно вычитанию векторов, имеем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ины векторов ВЕ и 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звестны. Пуст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ычислив  скалярные квадраты вектором ВЕ и 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лучим уравнения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йдем теперь через сторону АС, пользуясь векторной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ормулировкой теоремы косинусов: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дставим найденные выше значения и получим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Rectangle 1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6" name="Object 12"/>
              <p:cNvSpPr txBox="1"/>
              <p:nvPr/>
            </p:nvSpPr>
            <p:spPr>
              <a:xfrm>
                <a:off x="1476360" y="1341360"/>
                <a:ext cx="15843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А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  <m:r>
                          <m:t xml:space="preserve">,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77" name="Rectangle 1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8" name="Object 14"/>
              <p:cNvSpPr txBox="1"/>
              <p:nvPr/>
            </p:nvSpPr>
            <p:spPr>
              <a:xfrm>
                <a:off x="5003640" y="2290680"/>
                <a:ext cx="10796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ВЕ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9" name="Rectangle 1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Object 16"/>
              <p:cNvSpPr txBox="1"/>
              <p:nvPr/>
            </p:nvSpPr>
            <p:spPr>
              <a:xfrm>
                <a:off x="4967280" y="2573280"/>
                <a:ext cx="11523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АD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1" name="Rectangle 1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2" name="Object 18"/>
              <p:cNvSpPr txBox="1"/>
              <p:nvPr/>
            </p:nvSpPr>
            <p:spPr>
              <a:xfrm>
                <a:off x="5276880" y="3227400"/>
                <a:ext cx="15127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гда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3" name="Rectangle 21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Object 20"/>
              <p:cNvSpPr txBox="1"/>
              <p:nvPr/>
            </p:nvSpPr>
            <p:spPr>
              <a:xfrm>
                <a:off x="5105520" y="3797280"/>
                <a:ext cx="136656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5" name="Rectangle 25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6" name="Object 24"/>
              <p:cNvSpPr txBox="1"/>
              <p:nvPr/>
            </p:nvSpPr>
            <p:spPr>
              <a:xfrm>
                <a:off x="5118120" y="4491000"/>
                <a:ext cx="27367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а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начит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,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7" name="Rectangle 2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Object 26"/>
              <p:cNvSpPr txBox="1"/>
              <p:nvPr/>
            </p:nvSpPr>
            <p:spPr>
              <a:xfrm>
                <a:off x="5580000" y="5605560"/>
                <a:ext cx="1209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а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9" name="Rectangle 2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0" name="Object 28"/>
              <p:cNvSpPr txBox="1"/>
              <p:nvPr/>
            </p:nvSpPr>
            <p:spPr>
              <a:xfrm>
                <a:off x="6621480" y="5894280"/>
                <a:ext cx="685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091" name="Picture 30" descr="Копия с"/>
          <p:cNvPicPr/>
          <p:nvPr/>
        </p:nvPicPr>
        <p:blipFill>
          <a:blip r:embed="rId1"/>
          <a:stretch/>
        </p:blipFill>
        <p:spPr>
          <a:xfrm>
            <a:off x="1116000" y="3860640"/>
            <a:ext cx="1944720" cy="1416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92" name="WordArt 4"/>
          <p:cNvSpPr txBox="1"/>
          <p:nvPr/>
        </p:nvSpPr>
        <p:spPr>
          <a:xfrm>
            <a:off x="1187280" y="-144360"/>
            <a:ext cx="6126480" cy="15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2. Векторн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Е получено по лемме на стр. 134 А.Г.Мерзляк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класс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4" name="Объект 2" descr=""/>
          <p:cNvPicPr/>
          <p:nvPr/>
        </p:nvPicPr>
        <p:blipFill>
          <a:blip r:embed="rId1"/>
          <a:stretch/>
        </p:blipFill>
        <p:spPr>
          <a:xfrm>
            <a:off x="487440" y="1908000"/>
            <a:ext cx="7894440" cy="3822840"/>
          </a:xfrm>
          <a:prstGeom prst="rect">
            <a:avLst/>
          </a:prstGeom>
          <a:ln w="0">
            <a:noFill/>
          </a:ln>
        </p:spPr>
      </p:pic>
      <p:cxnSp>
        <p:nvCxnSpPr>
          <p:cNvPr id="1095" name="Прямая со стрелкой 4"/>
          <p:cNvCxnSpPr/>
          <p:nvPr/>
        </p:nvCxnSpPr>
        <p:spPr>
          <a:xfrm>
            <a:off x="2339640" y="399852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6" name="Прямая со стрелкой 6"/>
          <p:cNvCxnSpPr/>
          <p:nvPr/>
        </p:nvCxnSpPr>
        <p:spPr>
          <a:xfrm>
            <a:off x="3850920" y="399528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7" name="Прямая со стрелкой 7"/>
          <p:cNvCxnSpPr/>
          <p:nvPr/>
        </p:nvCxnSpPr>
        <p:spPr>
          <a:xfrm>
            <a:off x="782640" y="400500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8" name="Прямая со стрелкой 9"/>
          <p:cNvCxnSpPr/>
          <p:nvPr/>
        </p:nvCxnSpPr>
        <p:spPr>
          <a:xfrm flipH="1" flipV="1">
            <a:off x="6084000" y="4328280"/>
            <a:ext cx="72360" cy="86436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1099" name="Прямая со стрелкой 12"/>
          <p:cNvCxnSpPr/>
          <p:nvPr/>
        </p:nvCxnSpPr>
        <p:spPr>
          <a:xfrm>
            <a:off x="6156000" y="5192640"/>
            <a:ext cx="1872360" cy="21672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100" name="Прямая соединительная линия 15"/>
          <p:cNvSpPr/>
          <p:nvPr/>
        </p:nvSpPr>
        <p:spPr>
          <a:xfrm>
            <a:off x="6084720" y="4329000"/>
            <a:ext cx="194328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01" name="Прямая со стрелкой 18"/>
          <p:cNvCxnSpPr/>
          <p:nvPr/>
        </p:nvCxnSpPr>
        <p:spPr>
          <a:xfrm flipV="1">
            <a:off x="6156360" y="4760280"/>
            <a:ext cx="720000" cy="43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02" name="TextBox 20"/>
          <p:cNvSpPr/>
          <p:nvPr/>
        </p:nvSpPr>
        <p:spPr>
          <a:xfrm>
            <a:off x="5757120" y="40370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TextBox 21"/>
          <p:cNvSpPr/>
          <p:nvPr/>
        </p:nvSpPr>
        <p:spPr>
          <a:xfrm>
            <a:off x="5926680" y="51944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TextBox 22"/>
          <p:cNvSpPr/>
          <p:nvPr/>
        </p:nvSpPr>
        <p:spPr>
          <a:xfrm>
            <a:off x="6804360" y="44593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TextBox 23"/>
          <p:cNvSpPr/>
          <p:nvPr/>
        </p:nvSpPr>
        <p:spPr>
          <a:xfrm>
            <a:off x="7997760" y="53085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12:22:38Z</dcterms:created>
  <dc:creator>андр</dc:creator>
  <dc:description/>
  <dc:language>en-US</dc:language>
  <cp:lastModifiedBy>Owner</cp:lastModifiedBy>
  <cp:lastPrinted>2022-10-17T22:29:42Z</cp:lastPrinted>
  <dcterms:modified xsi:type="dcterms:W3CDTF">2022-11-15T03:33:40Z</dcterms:modified>
  <cp:revision>69</cp:revision>
  <dc:subject/>
  <dc:title>Слайд 1</dc:title>
</cp:coreProperties>
</file>